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7A21D-7DF7-47F9-878B-C1BFA69B0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1E2C1-6B76-4E35-809D-5BCB84DD2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199E5-8574-4F99-A017-F6A013E0B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010E5D-432C-4FBA-8F51-7183BEA64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26720F-9F0A-4C1F-8D08-A345774744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3650E-B8A8-4295-91C2-83DF67FBCA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D05F3-20DF-4FD8-AFEE-35D222538A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496BD7-A6CE-4FD9-A839-10CF737A29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B869C6-348E-4305-9F0A-F30DFB7B60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5FCC2F-F867-414A-98C2-EA18195CE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7E5D2B-92D0-448D-A811-68296F9D4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FB7DE-51B2-42B6-9DE9-069B363AB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F9855-CE32-4CFF-91F2-1CB1F756D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E6AF7-BC1B-494D-A255-A2E3EB883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26AB00-4176-43D8-90FD-848E5F22FE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6D8E5D-781D-4B0F-88DF-AB6DAB707D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FAB19B-2120-45C5-9A8B-D1577CB967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5DFADB-F3DD-46B5-889B-62B957BE61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6C8123-BBD3-4F16-A069-DB4607704C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2113B7-993F-44F1-A4B1-30A4892DEB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203CF7-F3BD-4599-873D-612F2A24C6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ECF9E7-C552-4C1A-9D5A-2D33ACC209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14FFD-86AC-4477-9FCB-8D38D5034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FCDA3A-A043-42A0-B9AF-60405E5FB6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835C3B-D4DD-4C5D-B97C-4FDF72DECD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9E5648-24AB-4D93-9CFA-FD1E8ED46C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6FD872-1BAE-443F-B313-1189470C63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C52ECD-1F42-40E8-91F8-6150BEE2E3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001839-69A1-458A-BD14-CAB0F14048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3A08DC-3BA4-4F01-8DBF-349ADAE3E1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59C835-9257-48F3-8581-AE43764E5C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71A05D-978C-4E83-A095-06B76AC3D7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BB86AA-C904-4484-BA8A-26ABB83A65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8B092-BAF6-445D-B4E6-B35AB359C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E96365-BBE2-47DC-B27D-7B7EB0E723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46ACA5-C26E-412C-8D9A-1C33DC6E69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D98742-1741-403C-82D1-C1B90D7F7B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F21B0B-F8F8-4CBD-8320-E02F0CF241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B96A7C-2D0C-4BF6-AA5C-7FF3C1F892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2FFC29-FB8D-463D-8C82-67BA002563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8C6A2A-DF14-429A-A4D7-E9C388B029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887EDE-2B85-462C-8F0E-9CFEE2CBD9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A707B7-5339-40B2-A108-150EFC8B45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4A002-8CE0-477B-8902-7A05B8F86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1E4FB-DCEB-4771-AF21-3D93E6BD4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37279-9BBD-4755-B84B-3C9D0B3BF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1F1CD-15BD-47A4-9F1C-433573131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9BDE4-F220-48ED-A691-219F9C1B6A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ACBDA3-4355-41E7-9264-F3E78B550F5C}"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E436DC-CD3F-4A1E-9135-225C610765D3}"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EEDCD9-5902-4139-A34A-ADC99DCB4899}"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D8F78F-323F-4094-81DF-ED2B67D8AEBE}"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022560"/>
            <a:ext cx="8229600" cy="1301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endParaRPr b="0" lang="en-US" sz="4000" spc="-1" strike="noStrike">
              <a:solidFill>
                <a:srgbClr val="000000"/>
              </a:solidFill>
              <a:latin typeface="Calibri"/>
            </a:endParaRPr>
          </a:p>
        </p:txBody>
      </p:sp>
      <p:sp>
        <p:nvSpPr>
          <p:cNvPr id="165" name="1 Rectángulo"/>
          <p:cNvSpPr/>
          <p:nvPr/>
        </p:nvSpPr>
        <p:spPr>
          <a:xfrm>
            <a:off x="179280" y="2217600"/>
            <a:ext cx="8640720" cy="2251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800" spc="-1" strike="noStrike">
                <a:solidFill>
                  <a:srgbClr val="000000"/>
                </a:solidFill>
                <a:latin typeface="Arial Black"/>
              </a:rPr>
              <a:t>INSTRUCTIVO</a:t>
            </a:r>
            <a:endParaRPr b="0" lang="en-US" sz="2800" spc="-1" strike="noStrike">
              <a:solidFill>
                <a:srgbClr val="000000"/>
              </a:solidFill>
              <a:latin typeface="Arial"/>
            </a:endParaRPr>
          </a:p>
          <a:p>
            <a:pPr algn="ctr">
              <a:lnSpc>
                <a:spcPct val="10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800" spc="-1" strike="noStrike">
                <a:solidFill>
                  <a:srgbClr val="000000"/>
                </a:solidFill>
                <a:latin typeface="Arial Black"/>
              </a:rPr>
              <a:t>FORMATO DE INDICADORES DUROS</a:t>
            </a:r>
            <a:endParaRPr b="0" lang="en-US" sz="2800" spc="-1" strike="noStrike">
              <a:solidFill>
                <a:srgbClr val="000000"/>
              </a:solidFill>
              <a:latin typeface="Arial"/>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800" spc="-1" strike="noStrike">
                <a:solidFill>
                  <a:srgbClr val="000000"/>
                </a:solidFill>
                <a:latin typeface="Arial Black"/>
              </a:rPr>
              <a:t>2011-20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Título 3"/>
          <p:cNvSpPr/>
          <p:nvPr/>
        </p:nvSpPr>
        <p:spPr>
          <a:xfrm>
            <a:off x="604800" y="138240"/>
            <a:ext cx="339408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67" name="5 Rectángulo"/>
          <p:cNvSpPr/>
          <p:nvPr/>
        </p:nvSpPr>
        <p:spPr>
          <a:xfrm>
            <a:off x="604800" y="1512720"/>
            <a:ext cx="7856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Arial"/>
                <a:ea typeface="MS PGothic"/>
              </a:rPr>
              <a:t>.</a:t>
            </a:r>
            <a:endParaRPr b="0" lang="en-US" sz="2400" spc="-1" strike="noStrike">
              <a:solidFill>
                <a:srgbClr val="000000"/>
              </a:solidFill>
              <a:latin typeface="Arial"/>
            </a:endParaRPr>
          </a:p>
        </p:txBody>
      </p:sp>
      <p:sp>
        <p:nvSpPr>
          <p:cNvPr id="168" name="Rectangle 2"/>
          <p:cNvSpPr/>
          <p:nvPr/>
        </p:nvSpPr>
        <p:spPr>
          <a:xfrm>
            <a:off x="685800" y="1312920"/>
            <a:ext cx="7772400" cy="4732200"/>
          </a:xfrm>
          <a:prstGeom prst="rect">
            <a:avLst/>
          </a:prstGeom>
          <a:noFill/>
          <a:ln w="0">
            <a:noFill/>
          </a:ln>
        </p:spPr>
        <p:style>
          <a:lnRef idx="0"/>
          <a:fillRef idx="0"/>
          <a:effectRef idx="0"/>
          <a:fontRef idx="minor"/>
        </p:style>
        <p:txBody>
          <a:bodyPr lIns="90000" rIns="90000" tIns="46800" bIns="46800" anchor="t" anchorCtr="1">
            <a:noAutofit/>
          </a:bodyPr>
          <a:p>
            <a:pPr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3600" spc="-1" strike="noStrike">
                <a:solidFill>
                  <a:srgbClr val="000000"/>
                </a:solidFill>
                <a:latin typeface="Calibri"/>
              </a:rPr>
              <a:t>El presente instructivo tiene la finalidad de facilitar el llenado de los formatos de indicadores duros que permitirán una mejor radiografía de la población que se atiende en las escuelas primarias del estado, por lo que la información es de sumo interés para la Dirección de Educación Primaria.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Rectangle 2"/>
          <p:cNvSpPr/>
          <p:nvPr/>
        </p:nvSpPr>
        <p:spPr>
          <a:xfrm>
            <a:off x="426960" y="1089000"/>
            <a:ext cx="8421840" cy="4419720"/>
          </a:xfrm>
          <a:prstGeom prst="rect">
            <a:avLst/>
          </a:prstGeom>
          <a:noFill/>
          <a:ln w="0">
            <a:noFill/>
          </a:ln>
        </p:spPr>
        <p:style>
          <a:lnRef idx="0"/>
          <a:fillRef idx="0"/>
          <a:effectRef idx="0"/>
          <a:fontRef idx="minor"/>
        </p:style>
        <p:txBody>
          <a:bodyPr lIns="90000" rIns="90000" tIns="46800" bIns="46800" anchor="t" anchorCtr="1">
            <a:noAutofit/>
          </a:bodyPr>
          <a:p>
            <a:pPr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3600" spc="-1" strike="noStrike">
                <a:solidFill>
                  <a:srgbClr val="000000"/>
                </a:solidFill>
                <a:latin typeface="Calibri"/>
              </a:rPr>
              <a:t>Solicitamos que la información que ustedes proporcionen corresponda al cierre del Ciclo Escolar vigente y sea acorde con los formatos oficiales como  la forma 911.4 (estadística final) o las calificaciones del programa SECEQ (registro y certificación) entre otros.</a:t>
            </a:r>
            <a:endParaRPr b="0" lang="en-US" sz="3600" spc="-1" strike="noStrike">
              <a:solidFill>
                <a:srgbClr val="000000"/>
              </a:solidFill>
              <a:latin typeface="Arial"/>
            </a:endParaRPr>
          </a:p>
          <a:p>
            <a:pPr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4 CuadroTexto"/>
          <p:cNvSpPr/>
          <p:nvPr/>
        </p:nvSpPr>
        <p:spPr>
          <a:xfrm>
            <a:off x="426960" y="1270080"/>
            <a:ext cx="8290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a:solidFill>
                  <a:srgbClr val="000000"/>
                </a:solidFill>
                <a:latin typeface="Arial"/>
              </a:rPr>
              <a:t>Al abrir la carpeta DATOS DUROS, encontrará cuatro archivos Excel (íconos con una “X” verde), con los siguientes nombres: </a:t>
            </a:r>
            <a:r>
              <a:rPr b="1" i="1" lang="es-MX" sz="1800" spc="-1" strike="noStrike">
                <a:solidFill>
                  <a:srgbClr val="000000"/>
                </a:solidFill>
                <a:latin typeface="Arial"/>
              </a:rPr>
              <a:t>aprovechamientos, bajas, comparativo y reprobación</a:t>
            </a:r>
            <a:r>
              <a:rPr b="0" lang="es-MX" sz="1800" spc="-1" strike="noStrike">
                <a:solidFill>
                  <a:srgbClr val="000000"/>
                </a:solidFill>
                <a:latin typeface="Arial"/>
              </a:rPr>
              <a:t>, cada uno corresponde a los indicadores duros que son de utilidad para la radiografía de Escuela, Zona o Sector, según corresponda.</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71" name="Picture 6" descr=""/>
          <p:cNvPicPr/>
          <p:nvPr/>
        </p:nvPicPr>
        <p:blipFill>
          <a:blip r:embed="rId2"/>
          <a:stretch/>
        </p:blipFill>
        <p:spPr>
          <a:xfrm>
            <a:off x="1501920" y="2830680"/>
            <a:ext cx="5742000" cy="359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1 CuadroTexto"/>
          <p:cNvSpPr/>
          <p:nvPr/>
        </p:nvSpPr>
        <p:spPr>
          <a:xfrm>
            <a:off x="650880" y="1463760"/>
            <a:ext cx="77612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Arial"/>
              </a:rPr>
              <a:t>La estructura de cada archivo es muy parecida; cuando se abre un archivo se despliega el formato a llenar. En la parte inferior de éste, se observan las hojas de trabajo que han sido configuradas con un nombre en las pestañas </a:t>
            </a:r>
            <a:r>
              <a:rPr b="1" lang="es-MX" sz="2400" spc="-1" strike="noStrike">
                <a:solidFill>
                  <a:srgbClr val="000000"/>
                </a:solidFill>
                <a:latin typeface="Arial"/>
              </a:rPr>
              <a:t>(</a:t>
            </a:r>
            <a:r>
              <a:rPr b="1" i="1" lang="es-MX" sz="2400" spc="-1" strike="noStrike">
                <a:solidFill>
                  <a:srgbClr val="000000"/>
                </a:solidFill>
                <a:latin typeface="Arial"/>
              </a:rPr>
              <a:t>Esc. 1, Esc. 2, Esc. 3 etc.</a:t>
            </a:r>
            <a:r>
              <a:rPr b="1" lang="es-MX" sz="2400" spc="-1" strike="noStrike">
                <a:solidFill>
                  <a:srgbClr val="000000"/>
                </a:solidFill>
                <a:latin typeface="Arial"/>
              </a:rPr>
              <a:t>)</a:t>
            </a:r>
            <a:r>
              <a:rPr b="0" lang="es-MX" sz="2400" spc="-1" strike="noStrike">
                <a:solidFill>
                  <a:srgbClr val="000000"/>
                </a:solidFill>
                <a:latin typeface="Arial"/>
              </a:rPr>
              <a:t>, (Puede cambiar el nombre de las hojas (</a:t>
            </a:r>
            <a:r>
              <a:rPr b="1" lang="es-MX" sz="2400" spc="-1" strike="noStrike">
                <a:solidFill>
                  <a:srgbClr val="000000"/>
                </a:solidFill>
                <a:latin typeface="Arial"/>
              </a:rPr>
              <a:t>Zona 1, Zona 2, Zona 3 etc</a:t>
            </a:r>
            <a:r>
              <a:rPr b="0" lang="es-MX" sz="2400" spc="-1" strike="noStrike">
                <a:solidFill>
                  <a:srgbClr val="000000"/>
                </a:solidFill>
                <a:latin typeface="Arial"/>
              </a:rPr>
              <a:t>) en ellas se podrá capturar la información de las diferentes escuelas que conforman una zona Escolar; de las diferentes Zonas Escolares que conforman un Sector Educativo o de los diferentes Sectores Educat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3" name="Picture 3" descr=""/>
          <p:cNvPicPr/>
          <p:nvPr/>
        </p:nvPicPr>
        <p:blipFill>
          <a:blip r:embed="rId2"/>
          <a:stretch/>
        </p:blipFill>
        <p:spPr>
          <a:xfrm>
            <a:off x="254160" y="985680"/>
            <a:ext cx="8584920" cy="5405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4 Rectángulo"/>
          <p:cNvSpPr/>
          <p:nvPr/>
        </p:nvSpPr>
        <p:spPr>
          <a:xfrm>
            <a:off x="254160" y="942840"/>
            <a:ext cx="8594640" cy="6082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a:solidFill>
                  <a:srgbClr val="000000"/>
                </a:solidFill>
                <a:latin typeface="Arial"/>
              </a:rPr>
              <a:t>Las hojas de trabajo están diseñadas como cuadros de doble entrada y cuentan con formulas predefinidas, cuando usted llene el dato solicitado en cada celda blanca, automáticamente se irá modificando la celda amarilla que contiene dichas fórmulas y procesa su información.</a:t>
            </a:r>
            <a:endParaRPr b="0" lang="en-US" sz="1800" spc="-1" strike="noStrike">
              <a:solidFill>
                <a:srgbClr val="000000"/>
              </a:solidFill>
              <a:latin typeface="Arial"/>
            </a:endParaRPr>
          </a:p>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a:solidFill>
                  <a:srgbClr val="000000"/>
                </a:solidFill>
                <a:latin typeface="Arial"/>
              </a:rPr>
              <a:t>De igual manera, en cada archivo hay una hoja denominada “CONCENTRADO” en la que automáticamente se procesarán los datos conforme se alimenta cada hoja de trabajo correspondiente a la Escuela, Supervisión Escolar o Jefatura de Sector, según corresponda. </a:t>
            </a:r>
            <a:endParaRPr b="0" lang="en-US" sz="1800" spc="-1" strike="noStrike">
              <a:solidFill>
                <a:srgbClr val="000000"/>
              </a:solidFill>
              <a:latin typeface="Arial"/>
            </a:endParaRPr>
          </a:p>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a:solidFill>
                  <a:srgbClr val="000000"/>
                </a:solidFill>
                <a:latin typeface="Arial"/>
              </a:rPr>
              <a:t>Importante: Las celdas amarillas contienen fórmulas para que, al ir capturando datos, se sume la información y genere la gráfica al final. NO MODIFICAR EL CONTENIDO DE ESTAS CELDAS PORQUE NI EL CONCENTRADO NI  LA GRÁFICA SE GENERARÁN VERÍDICAMENTE.</a:t>
            </a:r>
            <a:endParaRPr b="0" lang="en-US" sz="1800" spc="-1" strike="noStrike">
              <a:solidFill>
                <a:srgbClr val="000000"/>
              </a:solidFill>
              <a:latin typeface="Arial"/>
            </a:endParaRPr>
          </a:p>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5" name="Picture 1" descr=""/>
          <p:cNvPicPr/>
          <p:nvPr/>
        </p:nvPicPr>
        <p:blipFill>
          <a:blip r:embed="rId2"/>
          <a:stretch/>
        </p:blipFill>
        <p:spPr>
          <a:xfrm>
            <a:off x="436680" y="1046160"/>
            <a:ext cx="8372520" cy="539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9T19:10:32Z</dcterms:created>
  <dc:creator>Arlen</dc:creator>
  <dc:description/>
  <dc:language>en-US</dc:language>
  <cp:lastModifiedBy>admin</cp:lastModifiedBy>
  <dcterms:modified xsi:type="dcterms:W3CDTF">2012-06-22T14:22:56Z</dcterms:modified>
  <cp:revision>46</cp:revision>
  <dc:subject/>
  <dc:title>Texto</dc:title>
</cp:coreProperties>
</file>